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B43A-1813-4C07-9CFC-B071BFC0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B3E1-464E-46FA-859E-B4AAE23C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884E-ED0C-4D18-9783-5039BF6E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ADA5-3A2C-429B-98D8-645CD35B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7CA9-C340-49D2-A200-494C539A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1AC7-B770-4131-9678-62AA0F1E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45F2-7710-425B-B398-681EA1F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5DEC-A118-4973-9EBE-D8C80887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5B80-D21E-42B0-8FC9-14B67C1B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64F9-B00D-4F6D-A31E-EE9387F6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21A5-A7BC-408F-92B6-A6C5888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A43AB-F63B-43A1-A3FF-26CA547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63B-3F48-46A4-B7DE-C8E30735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809-5B05-447C-8D50-2D70AC0B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53A4-944B-42A6-BF44-0C0A5AB3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9C21-CCAB-4851-9D99-F469BDE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213E-5E0C-4979-920F-8EA73AAF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5B6D-BBA5-4BCF-A11C-ED3417B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C044-D0F5-422E-ACCE-CBB4D257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3537-F8C9-4C48-8756-B4EA692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7A4B-346D-4721-9746-64DCF0B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38DB1-9FDC-484E-A2EC-8D706754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E514-82B8-4C57-820D-D9B3E298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0490C-E2DD-4D82-A211-0642C10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B257-05DA-41D5-9E1C-3E5E90B1F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empus Sans ITC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F5E0-6AA0-4AD3-BF08-91320FAB2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empus Sans ITC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mpus Sans ITC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empus Sans IT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ecphysicalscience.wikispaces.com/Roller+Coasters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cectheforum.wikispaces.com/" TargetMode="Externa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ecchinesescholarsgardens.wikispaces.com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aganonline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empus Sans ITC"/>
              </a:rPr>
              <a:t>Tapping Into Multiple Intelligences through Cooperative Learning</a:t>
            </a:r>
            <a:br>
              <a:rPr sz="4600"/>
            </a:br>
            <a:endParaRPr b="0" lang="en-US" sz="4200" spc="-1" strike="noStrike">
              <a:solidFill>
                <a:srgbClr val="ffffff"/>
              </a:solidFill>
              <a:latin typeface="Tempus Sans IT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28600" y="43434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Presented To CCC Faculty by Craven Early College Instructors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Jill Darrough, Leah Shore, Kathi Whitfield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October 9, 2009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9:00 – 12:00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Classroom Management Style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74600" y="2057400"/>
          <a:ext cx="6996240" cy="4356000"/>
        </p:xfrm>
        <a:graphic>
          <a:graphicData uri="http://schemas.openxmlformats.org/drawingml/2006/table">
            <a:tbl>
              <a:tblPr/>
              <a:tblGrid>
                <a:gridCol w="2332080"/>
                <a:gridCol w="2332080"/>
                <a:gridCol w="2332080"/>
              </a:tblGrid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raditi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cher 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Cooperative Te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3:  Structure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5692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Gallery Walk Feedback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743200"/>
            <a:ext cx="7696080" cy="1295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Team Name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oject Name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Project Description: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2576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4343400"/>
          <a:ext cx="7772400" cy="2165400"/>
        </p:xfrm>
        <a:graphic>
          <a:graphicData uri="http://schemas.openxmlformats.org/drawingml/2006/table">
            <a:tbl>
              <a:tblPr/>
              <a:tblGrid>
                <a:gridCol w="4038480"/>
                <a:gridCol w="373392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1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2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3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4   Name: 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empus Sans ITC"/>
                          <a:ea typeface="Times New Roma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Team Feedback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4: Team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ind the Fiction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lo write 3 statements about yourself on your board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1 statement must be fiction and 2 statements must be fact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Flip board over to signal that you are ready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Designate a student to “go first”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student designated to go first will reveal their 3 statements. 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teammates will choose the fiction and reveal simultaneously. (Showdown!)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elebrate!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4: Team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 characteristics: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2819520"/>
            <a:ext cx="213336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E               Z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LOW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971800"/>
            <a:ext cx="1218960" cy="1371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empus Sans ITC"/>
              </a:rPr>
              <a:t>FUN!</a:t>
            </a:r>
            <a:endParaRPr b="0" lang="en-US" sz="3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3" name=""/>
          <p:cNvSpPr/>
          <p:nvPr/>
        </p:nvSpPr>
        <p:spPr>
          <a:xfrm>
            <a:off x="1892160" y="4343400"/>
            <a:ext cx="927360" cy="685800"/>
          </a:xfrm>
          <a:custGeom>
            <a:avLst/>
            <a:gdLst/>
            <a:ahLst/>
            <a:rect l="l" t="t" r="r" b="b"/>
            <a:pathLst>
              <a:path w="584" h="432">
                <a:moveTo>
                  <a:pt x="248" y="0"/>
                </a:moveTo>
                <a:cubicBezTo>
                  <a:pt x="124" y="84"/>
                  <a:pt x="0" y="168"/>
                  <a:pt x="56" y="240"/>
                </a:cubicBezTo>
                <a:cubicBezTo>
                  <a:pt x="112" y="312"/>
                  <a:pt x="496" y="400"/>
                  <a:pt x="584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4" name=""/>
          <p:cNvSpPr/>
          <p:nvPr/>
        </p:nvSpPr>
        <p:spPr>
          <a:xfrm rot="5226600">
            <a:off x="1828080" y="4495680"/>
            <a:ext cx="228600" cy="381240"/>
          </a:xfrm>
          <a:prstGeom prst="flowChartCollat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5" name=""/>
          <p:cNvSpPr/>
          <p:nvPr/>
        </p:nvSpPr>
        <p:spPr>
          <a:xfrm rot="5226600">
            <a:off x="2285280" y="4724280"/>
            <a:ext cx="228600" cy="381240"/>
          </a:xfrm>
          <a:prstGeom prst="flowChartCollat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58408"/>
          <a:stretch/>
        </p:blipFill>
        <p:spPr>
          <a:xfrm>
            <a:off x="4191120" y="3505320"/>
            <a:ext cx="1100160" cy="750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809880" y="3048120"/>
            <a:ext cx="1752840" cy="1828800"/>
          </a:xfrm>
          <a:prstGeom prst="noSmoking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3352680"/>
            <a:ext cx="1066680" cy="99072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5: Class 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illy Sport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Quiz – Quiz - Trade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Each student gets a question card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tand Up – Hand Up – Pair Up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cide who is “going first”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at student reads and shows the question to their partner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eir partner answers the question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he student praises and/or coache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proces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Trade card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parting salutation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5: Class Building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 characteristics: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819520"/>
            <a:ext cx="213336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819520"/>
            <a:ext cx="2133720" cy="24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371600" y="48006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48006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3200400"/>
            <a:ext cx="0" cy="16765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 flipH="1" rot="1913400">
            <a:off x="5181480" y="43308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 flipH="1" rot="6787800">
            <a:off x="3961800" y="3353400"/>
            <a:ext cx="317160" cy="309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 flipH="1" rot="8530800">
            <a:off x="3962160" y="41144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 flipH="1" rot="179400">
            <a:off x="4571640" y="37332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 flipH="1" rot="10800000">
            <a:off x="5105520" y="320040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flipH="1" rot="10800000">
            <a:off x="4648320" y="419112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 flipH="1" rot="10800000">
            <a:off x="4419720" y="464832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 flipH="1" rot="1992000">
            <a:off x="3657240" y="457128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 flipH="1" rot="8631600">
            <a:off x="3733920" y="29714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 flipH="1" rot="10800000">
            <a:off x="4495680" y="289548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 flipH="1" rot="7152600">
            <a:off x="3656880" y="3810240"/>
            <a:ext cx="317160" cy="309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 flipH="1" rot="12792000">
            <a:off x="5105520" y="3657240"/>
            <a:ext cx="317520" cy="309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 flipH="1" rot="20260800">
            <a:off x="4876560" y="4723560"/>
            <a:ext cx="317520" cy="309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 flipH="1" rot="10800000">
            <a:off x="4495680" y="3276720"/>
            <a:ext cx="317520" cy="309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7220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8" name=""/>
          <p:cNvSpPr/>
          <p:nvPr/>
        </p:nvSpPr>
        <p:spPr>
          <a:xfrm>
            <a:off x="6324480" y="3352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09" name=""/>
          <p:cNvSpPr/>
          <p:nvPr/>
        </p:nvSpPr>
        <p:spPr>
          <a:xfrm>
            <a:off x="6477120" y="3505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0" name=""/>
          <p:cNvSpPr/>
          <p:nvPr/>
        </p:nvSpPr>
        <p:spPr>
          <a:xfrm>
            <a:off x="6629400" y="3657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1" name=""/>
          <p:cNvSpPr/>
          <p:nvPr/>
        </p:nvSpPr>
        <p:spPr>
          <a:xfrm>
            <a:off x="6781680" y="3809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3048120"/>
            <a:ext cx="762120" cy="53316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4" name=""/>
          <p:cNvSpPr/>
          <p:nvPr/>
        </p:nvSpPr>
        <p:spPr>
          <a:xfrm>
            <a:off x="708660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4419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4572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8" name=""/>
          <p:cNvSpPr/>
          <p:nvPr/>
        </p:nvSpPr>
        <p:spPr>
          <a:xfrm>
            <a:off x="6781680" y="2971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39625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41148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4267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4572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4724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28954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38098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29" name=""/>
          <p:cNvSpPr/>
          <p:nvPr/>
        </p:nvSpPr>
        <p:spPr>
          <a:xfrm>
            <a:off x="6934320" y="31240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32767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4290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37339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4" name=""/>
          <p:cNvSpPr/>
          <p:nvPr/>
        </p:nvSpPr>
        <p:spPr>
          <a:xfrm>
            <a:off x="7696080" y="3886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5" name=""/>
          <p:cNvSpPr/>
          <p:nvPr/>
        </p:nvSpPr>
        <p:spPr>
          <a:xfrm>
            <a:off x="7620120" y="30481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6" name=""/>
          <p:cNvSpPr/>
          <p:nvPr/>
        </p:nvSpPr>
        <p:spPr>
          <a:xfrm>
            <a:off x="7772400" y="32004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7" name=""/>
          <p:cNvSpPr/>
          <p:nvPr/>
        </p:nvSpPr>
        <p:spPr>
          <a:xfrm>
            <a:off x="6172200" y="4648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38" name=""/>
          <p:cNvSpPr/>
          <p:nvPr/>
        </p:nvSpPr>
        <p:spPr>
          <a:xfrm>
            <a:off x="6324480" y="4800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6: Management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olo Write Reflection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252540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Wha’ yah Pakin?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empus Sans ITC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empus Sans ITC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243" name="MCj03574570000[1]" descr=""/>
          <p:cNvPicPr/>
          <p:nvPr/>
        </p:nvPicPr>
        <p:blipFill>
          <a:blip r:embed="rId1"/>
          <a:stretch/>
        </p:blipFill>
        <p:spPr>
          <a:xfrm>
            <a:off x="6781680" y="2057400"/>
            <a:ext cx="16002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-36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  <a:ea typeface="Calibri"/>
              </a:rPr>
              <a:t>Desired Outcomes: Upon completion of this staff development participants will have: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An opportunity to learn more about CCC colleagu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tools to create classes that tap into multiple intelligenc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tools to create classes that use cooperative learning activitie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An opportunity to learn in a brain friendly environment (novelty, nourishment, safety)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  <a:ea typeface="Arial"/>
              </a:rPr>
              <a:t>More information about Craven Early Colleg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971800"/>
          <a:ext cx="8229600" cy="3343320"/>
        </p:xfrm>
        <a:graphic>
          <a:graphicData uri="http://schemas.openxmlformats.org/drawingml/2006/table">
            <a:tbl>
              <a:tblPr/>
              <a:tblGrid>
                <a:gridCol w="2793960"/>
                <a:gridCol w="2768760"/>
                <a:gridCol w="2666880"/>
              </a:tblGrid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 (minut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Ups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lco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roducti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fe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nd Rul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ired Outcom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en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ckgrou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Keys Concepts for Succes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 &amp; 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1: Basic Principles - PI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 &amp; 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nd Up – Hand Up – Pair Up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2: Tea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room Management Styles: PIG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empus Sans ITC"/>
                <a:ea typeface="Calibri"/>
              </a:rPr>
              <a:t>Tapping into Multiple Intelligenc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empus Sans ITC"/>
                <a:ea typeface="Calibri"/>
              </a:rPr>
              <a:t>@ CE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1" action="ppaction://hlinksldjump"/>
              </a:rPr>
              <a:t>K. Whitfield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2" action="ppaction://hlinksldjump"/>
              </a:rPr>
              <a:t>L. Shore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buClr>
                <a:srgbClr val="666699"/>
              </a:buClr>
              <a:buSzPct val="75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Tempus Sans ITC"/>
                <a:ea typeface="Calibri"/>
                <a:hlinkClick r:id="rId3" action="ppaction://hlinksldjump"/>
              </a:rPr>
              <a:t>J. Darrough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hysical Science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Roller Coaster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The Forum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World Dynamic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CEC Scholar’s Garden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hat social skills are needed in today’s work place?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Jot Thoughts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eacher names a topic, sets a time limit, and provides think tim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udents write and announce their responses on Post-It notes (one idea per note)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Note is placed in the center of the tabl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tudents attempt to cover the table (notes should not overlap)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, Cont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What social skills are lacking in CCC students? 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7:  Social Skills, Cont.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mpus Sans ITC"/>
              </a:rPr>
              <a:t>Rally Robin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acher poses a problem/question with multiple responses, sets a time limit, and provides think time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tudents take turns with their shoulder partner stating their responses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Characteristics of Our Youth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Kids who have high self-esteem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ommunity focused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A world without boundaries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Entertainment driven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ultitasking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chnology.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Find Someone Who…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SUHUPU…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signate who “goes first” (partner A)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: chooses a question from B’s handout that A will answer for B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: record A’s response on their own handou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A: checks B’s response and initials that it is correc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B: expresses gratitude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process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Departing salutation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peat the entire process until the handout is completed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Return to your assigned seat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mpus Sans ITC"/>
              </a:rPr>
              <a:t>When all teammates are finished use a RoundRobin to compare responses.</a:t>
            </a:r>
            <a:endParaRPr b="0" lang="en-US" sz="24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685800"/>
          <a:ext cx="8305920" cy="5714640"/>
        </p:xfrm>
        <a:graphic>
          <a:graphicData uri="http://schemas.openxmlformats.org/drawingml/2006/table">
            <a:tbl>
              <a:tblPr/>
              <a:tblGrid>
                <a:gridCol w="2590920"/>
                <a:gridCol w="2971800"/>
                <a:gridCol w="2743200"/>
              </a:tblGrid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3: Structu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llery Wal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4: Teambuild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d the Fi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5: Class Building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ly Spor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iz – Quiz – Tra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eak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6: Manag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o Write Reflec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pping into Multiple Intelligences @ CE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y 7: Social Skill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t Though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s of Our You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. Sh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d Someone Wh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. Darroug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xt Step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D Evalu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us/Delt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. Whitfie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1981080"/>
          <a:ext cx="8229600" cy="4233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empus Sans ITC"/>
                          <a:ea typeface="Times New Roman"/>
                        </a:rPr>
                        <a:t>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empus Sans IT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Tempus Sans ITC"/>
                <a:hlinkClick r:id="rId1"/>
              </a:rPr>
              <a:t>www.KaganOnline.com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Multiple Intelligences Theory:  Three Visions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1 – Match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2 – Stretch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empus Sans ITC"/>
              </a:rPr>
              <a:t>3 - Celebrating</a:t>
            </a: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Seven Key Concepts for Succes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71240" y="1707480"/>
            <a:ext cx="6172560" cy="4859640"/>
            <a:chOff x="1371240" y="1707480"/>
            <a:chExt cx="6172560" cy="4859640"/>
          </a:xfrm>
        </p:grpSpPr>
        <p:grpSp>
          <p:nvGrpSpPr>
            <p:cNvPr id="115" name=""/>
            <p:cNvGrpSpPr/>
            <p:nvPr/>
          </p:nvGrpSpPr>
          <p:grpSpPr>
            <a:xfrm>
              <a:off x="1371240" y="1707480"/>
              <a:ext cx="6172560" cy="4859640"/>
              <a:chOff x="1371240" y="1707480"/>
              <a:chExt cx="6172560" cy="4859640"/>
            </a:xfrm>
          </p:grpSpPr>
          <p:sp>
            <p:nvSpPr>
              <p:cNvPr id="116" name=""/>
              <p:cNvSpPr/>
              <p:nvPr/>
            </p:nvSpPr>
            <p:spPr>
              <a:xfrm>
                <a:off x="1371600" y="1707480"/>
                <a:ext cx="6172200" cy="4859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1371240" y="4137480"/>
                <a:ext cx="617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227040" y="2006280"/>
                <a:ext cx="2460960" cy="426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 flipV="1">
                <a:off x="3188880" y="2037240"/>
                <a:ext cx="2460960" cy="426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3202560"/>
                <a:ext cx="2438280" cy="1775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empus Sans ITC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3733560" y="404388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Structure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752480" y="488484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Social Skill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5562360" y="320256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Class Building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5562360" y="488484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Team Building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1752480" y="320256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Principle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657600" y="5819400"/>
              <a:ext cx="148572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Management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3886200" y="2361600"/>
              <a:ext cx="1104840" cy="186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empus Sans ITC"/>
                </a:rPr>
                <a:t>Teams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  <a:ea typeface="Tempus Sans ITC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empus Sans ITC"/>
              </a:rPr>
              <a:t>Key 1:  4 Basic Principl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 A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P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empus Sans ITC"/>
              </a:rPr>
              <a:t>I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empus Sans IT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0" name=""/>
          <p:cNvSpPr/>
          <p:nvPr/>
        </p:nvSpPr>
        <p:spPr>
          <a:xfrm>
            <a:off x="3733920" y="2438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terdependenc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382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sitive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pic>
        <p:nvPicPr>
          <p:cNvPr id="132" name="j033997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771480" cy="905040"/>
          </a:xfrm>
          <a:prstGeom prst="rect">
            <a:avLst/>
          </a:prstGeom>
          <a:ln w="0">
            <a:noFill/>
          </a:ln>
        </p:spPr>
      </p:pic>
      <p:pic>
        <p:nvPicPr>
          <p:cNvPr id="133" name="j0339964" descr=""/>
          <p:cNvPicPr/>
          <p:nvPr/>
        </p:nvPicPr>
        <p:blipFill>
          <a:blip r:embed="rId2"/>
          <a:stretch/>
        </p:blipFill>
        <p:spPr>
          <a:xfrm>
            <a:off x="3352680" y="5410080"/>
            <a:ext cx="533520" cy="895320"/>
          </a:xfrm>
          <a:prstGeom prst="rect">
            <a:avLst/>
          </a:prstGeom>
          <a:ln w="0">
            <a:noFill/>
          </a:ln>
        </p:spPr>
      </p:pic>
      <p:pic>
        <p:nvPicPr>
          <p:cNvPr id="134" name="j0339956" descr=""/>
          <p:cNvPicPr/>
          <p:nvPr/>
        </p:nvPicPr>
        <p:blipFill>
          <a:blip r:embed="rId3"/>
          <a:stretch/>
        </p:blipFill>
        <p:spPr>
          <a:xfrm>
            <a:off x="4572000" y="5410080"/>
            <a:ext cx="695160" cy="895320"/>
          </a:xfrm>
          <a:prstGeom prst="rect">
            <a:avLst/>
          </a:prstGeom>
          <a:ln w="0">
            <a:noFill/>
          </a:ln>
        </p:spPr>
      </p:pic>
      <p:pic>
        <p:nvPicPr>
          <p:cNvPr id="135" name="j0339984" descr=""/>
          <p:cNvPicPr/>
          <p:nvPr/>
        </p:nvPicPr>
        <p:blipFill>
          <a:blip r:embed="rId4"/>
          <a:stretch/>
        </p:blipFill>
        <p:spPr>
          <a:xfrm>
            <a:off x="5791320" y="5410080"/>
            <a:ext cx="895320" cy="905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124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dividual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44197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nteraction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31240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ccountability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809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rticipation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1" name=""/>
          <p:cNvSpPr/>
          <p:nvPr/>
        </p:nvSpPr>
        <p:spPr>
          <a:xfrm>
            <a:off x="-152280" y="38098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qual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4956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mpus Sans ITC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multaneous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Stand Up – Hand Up – Pair Up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stands up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raises their hand high with a locked elbow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Everyone walks around until prompted to or finds a partner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Greet your new partner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Complete task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ank partner and say good bye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Repeat.</a:t>
            </a: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Key 2: Team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Heterogeneously grouping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Shoulder &amp; Face Partner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Groups of 3 or 5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Team Name &amp; Team Celebration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Change in 6 weeks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6172200" y="838080"/>
            <a:ext cx="83808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8" name=""/>
          <p:cNvSpPr/>
          <p:nvPr/>
        </p:nvSpPr>
        <p:spPr>
          <a:xfrm>
            <a:off x="6172200" y="1905120"/>
            <a:ext cx="838080" cy="1066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009920" y="838080"/>
            <a:ext cx="838440" cy="10670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1905120"/>
            <a:ext cx="838440" cy="10666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empus Sans ITC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25146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2" name=""/>
          <p:cNvSpPr/>
          <p:nvPr/>
        </p:nvSpPr>
        <p:spPr>
          <a:xfrm rot="10800000">
            <a:off x="7467120" y="9144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3" name=""/>
          <p:cNvSpPr/>
          <p:nvPr/>
        </p:nvSpPr>
        <p:spPr>
          <a:xfrm>
            <a:off x="6248520" y="2590920"/>
            <a:ext cx="30456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6171840" y="914400"/>
            <a:ext cx="304920" cy="3808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mpus Sans ITC"/>
              </a:rPr>
              <a:t>PIGS</a:t>
            </a:r>
            <a:endParaRPr b="0" lang="en-US" sz="4400" spc="-1" strike="noStrike">
              <a:solidFill>
                <a:srgbClr val="000000"/>
              </a:solidFill>
              <a:latin typeface="Tempus Sans IT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Solo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Group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empus Sans ITC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empus Sans ITC"/>
              </a:rPr>
              <a:t> Activity - Cooperative</a:t>
            </a:r>
            <a:endParaRPr b="0" lang="en-US" sz="3200" spc="-1" strike="noStrike">
              <a:solidFill>
                <a:srgbClr val="000000"/>
              </a:solidFill>
              <a:latin typeface="Tempus Sans IT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16:20:55Z</dcterms:created>
  <dc:creator>computer</dc:creator>
  <dc:description/>
  <dc:language>en-US</dc:language>
  <cp:lastModifiedBy>CEC158</cp:lastModifiedBy>
  <dcterms:modified xsi:type="dcterms:W3CDTF">2009-10-09T11:06:58Z</dcterms:modified>
  <cp:revision>28</cp:revision>
  <dc:subject/>
  <dc:title>Slide 1</dc:title>
</cp:coreProperties>
</file>